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1FD7-EEFB-44DB-A74C-12C2D1B4F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33BE-2C4A-41E4-BD61-9E6E0AE86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64F2-7C2F-466C-B59C-B3CC4410E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53A7-EFBC-426F-825E-F6FECA257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369F-3F0F-413D-BE27-D9726300A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9A83-0443-4B6A-8B6B-C4AB5E42F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4E1D-AAAA-4281-9199-A3A0EC29B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0356-DCC0-4CCA-AF1B-0F60BD18A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B46E-25CA-4516-93BF-A862B9198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936C-8FDF-40FF-9C45-A53D11E07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A6FA-14F9-4D60-BE4C-52DE7C156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3A24-D4B2-49DA-9F73-E6C53BDAE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D98A-40DE-4A8D-971D-9590C3D5C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3E37-F37A-43BA-AA62-CF5A0D1A1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3D22-047D-4302-9745-4564C71BC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15D8-4752-4FEC-BC8D-F8297AFC6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327F-55BB-4C12-9E99-FD830B151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A797-1072-4313-8440-C4F0CB513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F793-5866-4B7E-9CF3-E3B1A74F7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563E-5064-4190-9510-6F326FBC1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992B-2ECD-4B98-B4AE-C1414EC66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DF21-3D8E-417A-BC2A-5F6BF77B7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8B016-2226-4D86-BB2D-86959B9DA2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BD013-C039-4421-B268-135109BD3C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22302-2F41-492A-9243-5C66F9E071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4A5C2-26A6-4DDA-ADE7-90A72EE60E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E1B6-10B5-46DC-98F6-81DC0B8E60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9402-5295-45DA-958C-0EADAAC460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8B07-5127-49CD-8418-A38136B7D1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C7D8-136C-4348-90CE-5C3AAD4C894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6EEC-6ACC-4D92-BAA0-C3FF9EE2B1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0043-D228-4A2D-9A28-EAB6434159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3558-792B-445A-B0E3-820285AAA8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D948C-8AED-480A-9526-7A16D63249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FD3F-DEFA-4E4B-B250-4C7FDD255F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2DFD-6C7E-411B-9492-1DBFE43EAB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F69C-C7CA-4824-AC21-269C66A1A5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619F-BE42-4087-8B61-2089F67CB8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E91C-65C9-4129-8485-D78DFF8900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21B9A-7748-4532-AA60-3B9C3DA052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BDBA4-DFC5-42DA-AB03-44598082FC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7FBB8-6158-4296-8D83-1D0788ADFB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96482-45AD-4287-995E-361899D2DB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D0F56-CF1B-4BEC-BE6C-CA5101D235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E9202-81B3-439B-BB5B-50A05B8945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EACDC-5935-4FA1-A32C-F302CEB44E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7029-EEA7-4592-BCCB-4DD1CF8F61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E099-983A-42BD-B7C5-3473B6C10D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619C-3FBC-41F9-861F-DA90928341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Contrôle Qualité :  </a:t>
            </a:r>
            <a:br>
              <a:rPr sz="3600"/>
            </a:b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Diagnostics molé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051F-E21A-41F5-A1C5-EF1A0393A8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EEC5-10AD-4EEF-8E11-0A6AC902A8B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ltat négatif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2362-9147-439B-8E84-2AC6759268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1726-3F8D-443D-B978-E0D98E4E8113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isques avec la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plupart des RT-PCR sont faîtes « sur place 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primers ne sont pas nécessairement optimisés pour le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contrôles positifs sont « maison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contrôles négatifs sont « maison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interprétation des tests a besoin d’être faite prudem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4835-D95E-44FB-8B43-591502FBA0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708B-6E04-4550-BBBC-B63C2CCF6867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Vue généra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Prélèvement, transport, et traitement de l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intenir l’intégrité des acides nucléique à travers tous le process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Contrôle de la contamin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un circuit unidirectionnel de la zone de préparation des réactifs (ADN free) à la zone de traitement de l’échantillon, à la zone d’amplification et de détec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Contrôles positif et négati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Référence: CLSI MM3-A (Méthode de diagnostic moléculaire pour les maladies infectieu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C850-2FE4-4D2E-ACBD-3CA988C229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ADBAD-4AA0-4347-ACF0-7EC7F62A8098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Qualité: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iagnostics molé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C9DB-D028-4E61-A9A7-AECB69B417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2A33-9830-47E0-8A39-14BAD0DA615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D187-F718-4BE7-A47F-2FFEE64216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7B3D-3B9B-44AC-961B-38C1A403AB10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al Time-PCR (temps réel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Oval 3"/>
          <p:cNvSpPr/>
          <p:nvPr/>
        </p:nvSpPr>
        <p:spPr>
          <a:xfrm>
            <a:off x="152280" y="1600200"/>
            <a:ext cx="14479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ECHANTIL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Cible AN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 amplifié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 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E654-D0B7-41A5-B200-FFBD13B834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E9F6-4154-4653-98A1-8AE8E0EFA85A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actions d’amplif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Amplification / Te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5412600" y="4724280"/>
            <a:ext cx="23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PAS d’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6120-252B-4EE5-815D-9101DC6C59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C4EF-B8E8-4FFA-9AE8-FB678AAB170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228600" y="1305000"/>
            <a:ext cx="8153280" cy="49528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2"/>
          <p:cNvSpPr/>
          <p:nvPr/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al Time-PCR (temps rée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28E8-0E9D-4FE9-A9AA-E44D147104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5BB7-2910-4F13-BA02-771692DAF49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834F-1C73-4210-AC8E-837C0C22AC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D81D-BE74-49E0-AC73-402884C02DE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dolmazonv</cp:lastModifiedBy>
  <dcterms:modified xsi:type="dcterms:W3CDTF">2010-04-08T14:42:55Z</dcterms:modified>
  <cp:revision>7</cp:revision>
  <dc:subject/>
  <dc:title>Quality Control:   Molecular Diagnostics</dc:title>
</cp:coreProperties>
</file>